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8A2A-F37D-4A9D-8A1C-F9A541BEFF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4D16-1056-4B52-ACCC-7227F9D495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18A3-EA90-4FFA-B2FF-F6A8F83BCC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E3A-7957-4215-B13C-A36D6F6EAD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1528-A2FA-48D3-876D-0D95BA06BB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18C9-3D04-4005-9708-8E3016D41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DF4A-A8A5-48A7-850D-C569C8678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5052-C7B8-4601-AA48-A5825A37A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1D23-A695-4096-94A8-49D7563C6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2E4D-B318-4DB1-9CB4-AFA1DD37A5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D4E6-6E41-494D-B89F-C18E16453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6BEA-EC5B-4A32-80E5-202E445A9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3F9-1B33-4015-8DD8-3562CF4BED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DC4B-C90D-4EB6-B00E-27ED54694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A481-B838-4FDE-A8FC-0C87C0528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9481-CF78-4E55-992A-65D67440C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893B-225E-4010-B3B4-11744E0FF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9917-EC59-4E02-A96E-99E49E99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0F3-CDD9-4834-9F31-A49C877F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138-477E-43B9-A94A-106881611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5479-E205-4A7E-A579-586088D2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C2A7-4A14-47DC-97E9-EA89BED4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A82-B984-440C-B8A6-73F0E476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3B47-E611-4120-8229-3611E055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879-AE65-45AF-873F-8BC86EB9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9A4-F7A8-436A-9C14-A3E7C9D2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5E9-7E35-42ED-A59C-F774B111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C4C-ECCA-4F42-9800-828620F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53D-7816-45E0-8F06-151C708E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608A-2B99-482C-BD69-CF43AF0A14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3987-D20C-4B13-9288-A1DDA94BD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692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cosystems and Their Interactions</a:t>
            </a:r>
            <a:br>
              <a:rPr sz="3200"/>
            </a:br>
            <a:br>
              <a:rPr sz="3200"/>
            </a:br>
            <a:r>
              <a:rPr b="0" lang="en-US" sz="2600" spc="-1" strike="noStrike">
                <a:solidFill>
                  <a:srgbClr val="17375e"/>
                </a:solidFill>
                <a:latin typeface="Arial"/>
                <a:ea typeface="Times New Roman"/>
              </a:rPr>
              <a:t>Energy Flow in Ecosystems</a:t>
            </a:r>
            <a:r>
              <a:rPr b="0" lang="en-US" sz="26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four types of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(not 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3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Times New Roman"/>
              </a:rPr>
              <a:t>Can you guess what they are?</a:t>
            </a: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erb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ar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only eats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mnivo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eats both plants and anim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ecompo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breaks down dead organic mater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308320"/>
            <a:ext cx="8305560" cy="13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you show the energy transferred through (in) ecosyst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828800" y="4191120"/>
            <a:ext cx="556272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200" spc="-1" strike="noStrike">
                <a:solidFill>
                  <a:srgbClr val="898989"/>
                </a:solidFill>
                <a:latin typeface="Arial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839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Arial"/>
                <a:ea typeface="Times New Roman"/>
              </a:rPr>
              <a:t>Food chain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sequence in which energy is transferred from one organism to the next as one eats the other.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838080" y="27432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ood web"/>
          <p:cNvPicPr/>
          <p:nvPr/>
        </p:nvPicPr>
        <p:blipFill>
          <a:blip r:embed="rId1"/>
          <a:stretch/>
        </p:blipFill>
        <p:spPr>
          <a:xfrm>
            <a:off x="-458640" y="-428760"/>
            <a:ext cx="10061280" cy="7716960"/>
          </a:xfrm>
          <a:prstGeom prst="rect">
            <a:avLst/>
          </a:prstGeom>
          <a:ln w="0">
            <a:noFill/>
          </a:ln>
        </p:spPr>
      </p:pic>
      <p:sp>
        <p:nvSpPr>
          <p:cNvPr id="71" name="Sun 3"/>
          <p:cNvSpPr/>
          <p:nvPr/>
        </p:nvSpPr>
        <p:spPr>
          <a:xfrm>
            <a:off x="2743200" y="-685800"/>
            <a:ext cx="2666880" cy="266688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5"/>
          <p:cNvCxnSpPr/>
          <p:nvPr/>
        </p:nvCxnSpPr>
        <p:spPr>
          <a:xfrm flipH="1">
            <a:off x="1828080" y="990720"/>
            <a:ext cx="10674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3" name="Straight Arrow Connector 6"/>
          <p:cNvCxnSpPr/>
          <p:nvPr/>
        </p:nvCxnSpPr>
        <p:spPr>
          <a:xfrm>
            <a:off x="1141920" y="2971800"/>
            <a:ext cx="153000" cy="53424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4" name="Straight Arrow Connector 8"/>
          <p:cNvCxnSpPr/>
          <p:nvPr/>
        </p:nvCxnSpPr>
        <p:spPr>
          <a:xfrm>
            <a:off x="2361960" y="4343400"/>
            <a:ext cx="610200" cy="3816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5" name="Straight Arrow Connector 11"/>
          <p:cNvCxnSpPr/>
          <p:nvPr/>
        </p:nvCxnSpPr>
        <p:spPr>
          <a:xfrm>
            <a:off x="5562720" y="5029200"/>
            <a:ext cx="838800" cy="216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6" name="Straight Arrow Connector 13"/>
          <p:cNvCxnSpPr/>
          <p:nvPr/>
        </p:nvCxnSpPr>
        <p:spPr>
          <a:xfrm flipH="1" flipV="1">
            <a:off x="7466760" y="2590560"/>
            <a:ext cx="686520" cy="1296000"/>
          </a:xfrm>
          <a:prstGeom prst="straightConnector1">
            <a:avLst/>
          </a:prstGeom>
          <a:ln w="3816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77" name="TextBox 15"/>
          <p:cNvSpPr/>
          <p:nvPr/>
        </p:nvSpPr>
        <p:spPr>
          <a:xfrm>
            <a:off x="5105520" y="-3049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875520" y="380880"/>
            <a:ext cx="74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 how do you make a food chain?!?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80880" y="1371600"/>
            <a:ext cx="845820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of all, choose an ecosystem that you want to focus on. (You wouldn’t want to put together a rattlesnake, a penguin and a black bear because they obviously don’t live together in the same ecosystem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choose an organism at each level (producer, primary consumer, secondary consumer, tertiary consumer, etc.) that would actually eat the one befor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ink about which direction your arrows need to point (arrows ALWAYS point towards where the energy is GO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e next few slides for more information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533520" y="339840"/>
            <a:ext cx="83818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ctually already made a food chain earli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producer because it makes its energy from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primary consumer (or 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secondary consumer (or 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tertiary consumer (or 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l it’s a food cha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Notice that the arrows are pointing t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where the energy is go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not what is eating what)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457200" y="380880"/>
            <a:ext cx="8686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you think of a food chain?  Do you think you can draw it (with pictures or words)?  Do you think you could draw it with the arrows going in the right dire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***Remember, describe the direction the arrows are pointing by saying “producer to primary consumer” or “secondary consumer to tertiary consumer.”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left to right” because food chains/webs can be drawn in any dir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ck it o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nak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Fro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ady Bug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Gras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y both mean the same th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ou could even draw them from top to bottom or bottom to top!  Just make sure the arrows are pointing in the right direction (towards where the energy is GO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Try drawing your food chain on a scrap piece of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1722600"/>
            <a:ext cx="8686800" cy="25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375e"/>
                </a:solidFill>
                <a:latin typeface="Arial"/>
                <a:ea typeface="Times New Roman"/>
              </a:rPr>
              <a:t>Food webs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show the many feeding relationships in an ecosystem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food chain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982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62120" y="763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Arial"/>
              </a:rPr>
              <a:t>Marine 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n 4"/>
          <p:cNvSpPr/>
          <p:nvPr/>
        </p:nvSpPr>
        <p:spPr>
          <a:xfrm>
            <a:off x="3886200" y="5410080"/>
            <a:ext cx="2666880" cy="2667240"/>
          </a:xfrm>
          <a:prstGeom prst="sun">
            <a:avLst>
              <a:gd name="adj" fmla="val 25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Straight Arrow Connector 6"/>
          <p:cNvCxnSpPr/>
          <p:nvPr/>
        </p:nvCxnSpPr>
        <p:spPr>
          <a:xfrm flipV="1">
            <a:off x="5257800" y="4801320"/>
            <a:ext cx="2160" cy="608760"/>
          </a:xfrm>
          <a:prstGeom prst="straightConnector1">
            <a:avLst/>
          </a:prstGeom>
          <a:ln w="31680">
            <a:solidFill>
              <a:srgbClr val="7f7f7f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 PYRAMID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trophic=energ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ach step in the transfer of energy through an ecosystem is known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oph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838080" y="2438280"/>
            <a:ext cx="7620120" cy="4191120"/>
            <a:chOff x="838080" y="2438280"/>
            <a:chExt cx="7620120" cy="4191120"/>
          </a:xfrm>
        </p:grpSpPr>
        <p:sp>
          <p:nvSpPr>
            <p:cNvPr id="89" name="AutoShape 3"/>
            <p:cNvSpPr/>
            <p:nvPr/>
          </p:nvSpPr>
          <p:spPr>
            <a:xfrm>
              <a:off x="838080" y="2438280"/>
              <a:ext cx="7620120" cy="419112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0"/>
            <p:cNvGrpSpPr/>
            <p:nvPr/>
          </p:nvGrpSpPr>
          <p:grpSpPr>
            <a:xfrm>
              <a:off x="1752480" y="2895480"/>
              <a:ext cx="5791320" cy="3645360"/>
              <a:chOff x="1752480" y="2895480"/>
              <a:chExt cx="5791320" cy="3645360"/>
            </a:xfrm>
          </p:grpSpPr>
          <p:sp>
            <p:nvSpPr>
              <p:cNvPr id="91" name="Line 4"/>
              <p:cNvSpPr/>
              <p:nvPr/>
            </p:nvSpPr>
            <p:spPr>
              <a:xfrm>
                <a:off x="1752480" y="5639040"/>
                <a:ext cx="579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5"/>
              <p:cNvSpPr/>
              <p:nvPr/>
            </p:nvSpPr>
            <p:spPr>
              <a:xfrm>
                <a:off x="2666880" y="4648320"/>
                <a:ext cx="4038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6"/>
              <p:cNvSpPr/>
              <p:nvPr/>
            </p:nvSpPr>
            <p:spPr>
              <a:xfrm>
                <a:off x="3504960" y="3733560"/>
                <a:ext cx="236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 Box 7"/>
              <p:cNvSpPr/>
              <p:nvPr/>
            </p:nvSpPr>
            <p:spPr>
              <a:xfrm>
                <a:off x="3124080" y="5715360"/>
                <a:ext cx="312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oducers (photosynthesis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 Box 8"/>
              <p:cNvSpPr/>
              <p:nvPr/>
            </p:nvSpPr>
            <p:spPr>
              <a:xfrm>
                <a:off x="3733560" y="487692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rim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9"/>
              <p:cNvSpPr/>
              <p:nvPr/>
            </p:nvSpPr>
            <p:spPr>
              <a:xfrm>
                <a:off x="3809880" y="3809880"/>
                <a:ext cx="1828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ondary Consu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1"/>
              <p:cNvSpPr/>
              <p:nvPr/>
            </p:nvSpPr>
            <p:spPr>
              <a:xfrm>
                <a:off x="3733560" y="2895480"/>
                <a:ext cx="2057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ertiary Consu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ultimate source of energy for all living things is the sun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IMG_1045.JPG"/>
          <p:cNvPicPr/>
          <p:nvPr/>
        </p:nvPicPr>
        <p:blipFill>
          <a:blip r:embed="rId1"/>
          <a:stretch/>
        </p:blipFill>
        <p:spPr>
          <a:xfrm>
            <a:off x="1371600" y="533520"/>
            <a:ext cx="628668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02920" y="457200"/>
            <a:ext cx="80474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 you think there are so many organisms on the bottom of the pyrami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there so few at the top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one level that is more important than the others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compare this pyramid to something else to prove your poi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2"/>
          <p:cNvSpPr/>
          <p:nvPr/>
        </p:nvSpPr>
        <p:spPr>
          <a:xfrm>
            <a:off x="76320" y="152280"/>
            <a:ext cx="335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re is a 90% energy 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</a:rPr>
              <a:t>loss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tween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trophic level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5"/>
          <p:cNvGrpSpPr/>
          <p:nvPr/>
        </p:nvGrpSpPr>
        <p:grpSpPr>
          <a:xfrm>
            <a:off x="0" y="152280"/>
            <a:ext cx="9144000" cy="6631920"/>
            <a:chOff x="0" y="152280"/>
            <a:chExt cx="9144000" cy="6631920"/>
          </a:xfrm>
        </p:grpSpPr>
        <p:sp>
          <p:nvSpPr>
            <p:cNvPr id="101" name="AutoShape 2"/>
            <p:cNvSpPr/>
            <p:nvPr/>
          </p:nvSpPr>
          <p:spPr>
            <a:xfrm>
              <a:off x="0" y="152280"/>
              <a:ext cx="9144000" cy="6629400"/>
            </a:xfrm>
            <a:prstGeom prst="triangle">
              <a:avLst>
                <a:gd name="adj" fmla="val 4975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"/>
            <p:cNvSpPr/>
            <p:nvPr/>
          </p:nvSpPr>
          <p:spPr>
            <a:xfrm>
              <a:off x="990360" y="5410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1904760" y="396216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5"/>
            <p:cNvSpPr/>
            <p:nvPr/>
          </p:nvSpPr>
          <p:spPr>
            <a:xfrm>
              <a:off x="2819160" y="2666880"/>
              <a:ext cx="350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828800" y="5867280"/>
              <a:ext cx="571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ucers (Plant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>
              <a:off x="2666880" y="4495680"/>
              <a:ext cx="365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im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590560" y="3047760"/>
              <a:ext cx="39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cond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3657600" y="159984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ertiary Consum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3"/>
            <p:cNvSpPr/>
            <p:nvPr/>
          </p:nvSpPr>
          <p:spPr>
            <a:xfrm>
              <a:off x="8001000" y="6324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4"/>
            <p:cNvSpPr/>
            <p:nvPr/>
          </p:nvSpPr>
          <p:spPr>
            <a:xfrm>
              <a:off x="7086600" y="49528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5"/>
            <p:cNvSpPr/>
            <p:nvPr/>
          </p:nvSpPr>
          <p:spPr>
            <a:xfrm>
              <a:off x="6248520" y="3504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6"/>
            <p:cNvSpPr/>
            <p:nvPr/>
          </p:nvSpPr>
          <p:spPr>
            <a:xfrm>
              <a:off x="5410080" y="2209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1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12"/>
          <p:cNvSpPr/>
          <p:nvPr/>
        </p:nvSpPr>
        <p:spPr>
          <a:xfrm>
            <a:off x="6324480" y="763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ing… only </a:t>
            </a:r>
            <a:r>
              <a:rPr b="1" lang="en-US" sz="3600" spc="-1" strike="noStrike">
                <a:solidFill>
                  <a:srgbClr val="17375e"/>
                </a:solidFill>
                <a:latin typeface="Times New Roman"/>
              </a:rPr>
              <a:t>10%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of the energy is transfer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99880" y="533520"/>
            <a:ext cx="871524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se questions, then go back to the last slid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f you can answer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 what the pyramid in the last slide means to someone e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at how much energy is lost and how much is passed on between trophic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the %’s make sense in the pyramid?  Could you explain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160000" y="5446800"/>
            <a:ext cx="501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K if you have question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20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IMG_0550.JPG"/>
          <p:cNvPicPr/>
          <p:nvPr/>
        </p:nvPicPr>
        <p:blipFill>
          <a:blip r:embed="rId1"/>
          <a:stretch/>
        </p:blipFill>
        <p:spPr>
          <a:xfrm>
            <a:off x="-5335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9753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imes New Roman"/>
              </a:rPr>
              <a:t>Plants, algae and some bacteria can capture solar energy and store it as food.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360" y="4266720"/>
            <a:ext cx="9753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bf1de"/>
                </a:solidFill>
                <a:latin typeface="Arial"/>
                <a:ea typeface="Times New Roman"/>
              </a:rPr>
              <a:t>What is this process called?</a:t>
            </a:r>
            <a:r>
              <a:rPr b="1" lang="en-US" sz="3600" spc="-1" strike="noStrike">
                <a:solidFill>
                  <a:srgbClr val="ebf1de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93cddd"/>
                </a:solidFill>
                <a:latin typeface="Calibri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er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produce their own energy through photosynthesis.  They are also known 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autotroph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IMG_0539.JPG"/>
          <p:cNvPicPr/>
          <p:nvPr/>
        </p:nvPicPr>
        <p:blipFill>
          <a:blip r:embed="rId1"/>
          <a:stretch/>
        </p:blipFill>
        <p:spPr>
          <a:xfrm>
            <a:off x="2514600" y="2362320"/>
            <a:ext cx="61722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48320" y="9907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are organisms that get their energy by eating other organisms.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y are also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terotroph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SC_0307182.jpg"/>
          <p:cNvPicPr/>
          <p:nvPr/>
        </p:nvPicPr>
        <p:blipFill>
          <a:blip r:embed="rId1"/>
          <a:stretch/>
        </p:blipFill>
        <p:spPr>
          <a:xfrm>
            <a:off x="304920" y="457200"/>
            <a:ext cx="392724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0" y="228600"/>
            <a:ext cx="9144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n be identified more specifical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umer) – eats primary (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written shorthand: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– eats secondary (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an continue (quaternary (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consumer, etc.) as long as there are more organisms that eat the la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457200" y="225360"/>
            <a:ext cx="83818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plug some organisms into these names to make more sense of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ss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ecause it makes its energy from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lady bug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im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grass which is a produ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frog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econd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lady bug which is a prim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nake would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tiary consum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or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nsumer) because it eats the frog which is a secondary consu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We will come back to these examples later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IMG_1045.JPG"/>
          <p:cNvPicPr/>
          <p:nvPr/>
        </p:nvPicPr>
        <p:blipFill>
          <a:blip r:embed="rId1"/>
          <a:stretch/>
        </p:blipFill>
        <p:spPr>
          <a:xfrm>
            <a:off x="-38088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mportant:  </a:t>
            </a:r>
            <a:r>
              <a:rPr b="1" lang="en-US" sz="3200" spc="-1" strike="noStrike">
                <a:solidFill>
                  <a:srgbClr val="0d0a10"/>
                </a:solidFill>
                <a:latin typeface="Arial"/>
                <a:ea typeface="Times New Roman"/>
              </a:rPr>
              <a:t>All living things get energy from the sun, some directly and others indirect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ne exception to the rule: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Deep ocean communities that have a bacteria that make energy from Hydrogen Sulfide released through fissures in the ocean floor.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6:38:15Z</dcterms:created>
  <dc:creator>Matthaei, Cari</dc:creator>
  <dc:description/>
  <dc:language>en-US</dc:language>
  <cp:lastModifiedBy>User</cp:lastModifiedBy>
  <dcterms:modified xsi:type="dcterms:W3CDTF">2010-08-31T20:23:55Z</dcterms:modified>
  <cp:revision>7</cp:revision>
  <dc:subject/>
  <dc:title>Ecosystems and Their Interactions  Energy Flow in Ecosystems</dc:title>
</cp:coreProperties>
</file>